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621-72E5-4E84-BD2A-F5066F09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17F-E562-43A3-B66F-082940AD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697-2FDD-4AB8-9163-40CABA14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4D4-CAC6-4B07-8A31-54695FB2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E33-2DE3-4C8E-8B24-F62CD8B2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EB9-BB8D-420D-B316-24E6C85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F24-B9AB-43ED-97E6-5111443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1A9-9782-4AAF-BA19-1B09222B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5BA-F77F-413E-A186-C16929FE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7A8-C46A-4CDE-BB05-9ADCC71B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85B3-1B80-4431-9DA7-74529EE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344A-0B46-41DF-9BE1-884F4C0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836-B483-4CC5-A3E3-DB68C0163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ppliedlanguage.com/flags_of_the_world/large_flag_of_united_states.gif&amp;imgrefurl=http://www.appliedlanguage.com/flags_of_the_world/flag_of_united_states.shtml&amp;usg=__eFyFSagUM5zLeFSXR0tY3eygprk=&amp;h=302&amp;w=575&amp;sz=7&amp;hl=en&amp;start=5&amp;um=1&amp;itbs=1&amp;tbnid=ReAV7CPdi6X5dM:&amp;tbnh=70&amp;tbnw=134&amp;prev=/images%3Fq%3Dunited%2Bstates%26um%3D1%26hl%3Den%26safe%3Dactive%26sa%3DN%26rlz%3D1R2GGLR_enUS345%26tbs%3Disch: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internet-institute.com/Images/etudes/es-ES/equipement18_7.pn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abc.es/blogs/nieves/public/+250MA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temzoo.blogdiario.com/img/animal2.jpg&amp;imgrefurl=http://utemzoo.blogdiario.com/1232120520/&amp;usg=__f2DxZPqve458aMEZEnno7rH83o0=&amp;h=600&amp;w=800&amp;sz=74&amp;hl=en&amp;start=4&amp;um=1&amp;itbs=1&amp;tbnid=-eEXUbyQDdRe9M:&amp;tbnh=107&amp;tbnw=143&amp;prev=/images%3Fq%3Dlos%2Banimales%26um%3D1%26hl%3Den%26safe%3Dactive%26rlz%3D1R2GGLR_enUS345%26tbs%3Disch: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tudentweb.cortland.edu/sarah.decapio/miniproj2/animales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JOSUE .DELGADO</a:t>
            </a: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J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ld English Text MT"/>
              </a:rPr>
              <a:t>AGUSTINI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Cancun Vacations"/>
          <p:cNvPicPr/>
          <p:nvPr/>
        </p:nvPicPr>
        <p:blipFill>
          <a:blip r:embed="rId1"/>
          <a:stretch/>
        </p:blipFill>
        <p:spPr>
          <a:xfrm>
            <a:off x="457200" y="2666880"/>
            <a:ext cx="3952800" cy="316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29200" y="2971800"/>
            <a:ext cx="3657600" cy="191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69600" y="19447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429000"/>
            <a:ext cx="3886200" cy="286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581280"/>
            <a:ext cx="41911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gre-el cabballo-el perro-el conejo-el perrico-el g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276720"/>
            <a:ext cx="3809880" cy="2851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3276720"/>
            <a:ext cx="40384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om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ne  pollo tortillas salsa limon sanaoria cilantro tomat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523872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 p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a lo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hijos chris y stew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hija me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erro bry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133720"/>
            <a:ext cx="380988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1:04Z</dcterms:created>
  <dc:creator>WSFCS Workstation</dc:creator>
  <dc:description/>
  <dc:language>en-US</dc:language>
  <cp:lastModifiedBy>WSFCS Workstation</cp:lastModifiedBy>
  <dcterms:modified xsi:type="dcterms:W3CDTF">2010-04-26T18:55:21Z</dcterms:modified>
  <cp:revision>3</cp:revision>
  <dc:subject/>
  <dc:title>Slide 1</dc:title>
</cp:coreProperties>
</file>